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FDC-F571-4C09-8C9F-CB9AA5E6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296-7721-4884-8A88-FD1B38F7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03F-9204-43DD-8E27-1A54E435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8A1-17B8-47F5-843A-8C0C1587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653C-8A02-475D-AF73-8B08BDFD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0147-D1A8-49D1-9761-8CEC239D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4DDB-A52B-459F-B304-E3D31140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A8F8-E341-4906-8D2E-F9161E87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A0E1-3F94-4749-9239-C0C3CBAE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0ADE-43AF-4DF0-85BA-77B8A488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DBC3-A4D3-43FA-AA4F-B16606D5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B38-A142-46B6-B9C5-7B87210B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6487-0EBA-4C59-B81C-EDAAF677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0E4B-1E09-4B38-925E-FAED73FF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3B43-8789-48B6-83D0-DE0D0191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5610-4A98-4230-950E-73FE9B4C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0D5D-E8E7-4ABF-9EB6-9246BEA0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A1F-4F9E-4B42-B945-EE615AFA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2B7-5577-48BE-BC2F-1401C92C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FCF-F251-4F04-88C9-D35635A1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888-1325-42EF-99E7-278DE1AD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789-4F0A-4987-BEDF-B6EA5571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3AE-DBD9-482C-B841-FB858527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64F-22E7-42A5-9BB3-9866EFA4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9210-BAE7-4BAE-AB91-D9153DB549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A4EB-04D1-4B09-837E-AB6852999B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afael Leónidas Trujillo Molin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he Dictator of the Dominican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Trujillo"/>
          <p:cNvPicPr/>
          <p:nvPr/>
        </p:nvPicPr>
        <p:blipFill>
          <a:blip r:embed="rId1"/>
          <a:stretch/>
        </p:blipFill>
        <p:spPr>
          <a:xfrm>
            <a:off x="3733920" y="4038480"/>
            <a:ext cx="1942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43000" y="380520"/>
            <a:ext cx="7313760" cy="48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irabal Sisters are martyrs in their count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so influential that the author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lia Álvarez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rote a novel about their l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graphic"/>
          <p:cNvPicPr/>
          <p:nvPr/>
        </p:nvPicPr>
        <p:blipFill>
          <a:blip r:embed="rId1"/>
          <a:stretch/>
        </p:blipFill>
        <p:spPr>
          <a:xfrm>
            <a:off x="6337440" y="3276720"/>
            <a:ext cx="2120760" cy="3124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2036880" cy="3105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3429000" y="3381480"/>
            <a:ext cx="18763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400" y="76320"/>
            <a:ext cx="73137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assinating Trujillo took a long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entral Intelligence Agency (CIA), in the USA helped the Dominicans plan the death of Trujillo in 1961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eapons had to come from outside the country because they could not count on the weapons of the Dominican Milita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IA started sending weapons to Dominican Republic in 196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4800600" y="4495680"/>
            <a:ext cx="37339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71600" y="1219320"/>
            <a:ext cx="7012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rn on October 24, 1891 in San Cristobal, Dominican Republ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parents were poor and of mixed rac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european/black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Map of Dominican Republic"/>
          <p:cNvPicPr/>
          <p:nvPr/>
        </p:nvPicPr>
        <p:blipFill>
          <a:blip r:embed="rId1"/>
          <a:stretch/>
        </p:blipFill>
        <p:spPr>
          <a:xfrm>
            <a:off x="2874960" y="2211480"/>
            <a:ext cx="3930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69800" y="990720"/>
            <a:ext cx="7313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27, he joins the National Pol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jillo was trained by the US military when they occupied the Dominican Republ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ly rose in ranks as an Officer and at this time, he met many influential people and created a chain of all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1919 and 1925, he rose from Lieutenant to Commanding Colonel of the National Poli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990720"/>
            <a:ext cx="7313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jillo was the head of the Military for Horacio Vásquez, who was President at the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30, Trujillo along with the US government got rid of Vásque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his revolution, Trujillo became Presid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his inauguration, the Congress proclaimed the “Age of Trujillo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70160" y="762120"/>
            <a:ext cx="724032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ujillo was President from 1930 until 1938 and from 1942 until 1952.  He was also Minister of Foreign Relations from 1953 to 196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en when he was not the President nor the Minister of Foreign Relations, he was the Dictator of the Dominican Republi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ujillo’s flag during his presidenc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Flag of the Generalissime"/>
          <p:cNvPicPr/>
          <p:nvPr/>
        </p:nvPicPr>
        <p:blipFill>
          <a:blip r:embed="rId1"/>
          <a:stretch/>
        </p:blipFill>
        <p:spPr>
          <a:xfrm>
            <a:off x="3357720" y="3200400"/>
            <a:ext cx="3195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363760" y="230040"/>
            <a:ext cx="6703920" cy="639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en he was President, Trujillo the political party “El Partido Dominicano” that controlled the politics of the Dominican Republic for three decades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uring the Age of Trujillo, the Dominican economy had the most stability, however the citizens had no political freedom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ll Dominicans had to have a Photograph of Trujillo in their homes and had to include him in their prayer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trujillo3"/>
          <p:cNvPicPr/>
          <p:nvPr/>
        </p:nvPicPr>
        <p:blipFill>
          <a:blip r:embed="rId1"/>
          <a:stretch/>
        </p:blipFill>
        <p:spPr>
          <a:xfrm>
            <a:off x="0" y="0"/>
            <a:ext cx="240840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0" y="38862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18960" y="1080"/>
            <a:ext cx="731340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jillo used his position in the military to obtain and maintain his pow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used the “Policía Secreta” as spies in the Dominican Republic and many other countri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government of Haiti found out that they were being spied on by Trujillo, the Haitians killed the sp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retaliation, Trujillo murdered 20,000 Haitians en 193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57200" y="4267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76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ere many citizens that were against the atrocities of Truji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irabal Sisters, better known as “Las mariposas” (the butterflies), were three activists that were against Trujillo’s dictatorship. They were four sisters from Ojo de Agua, Dominican Republ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fought against the governments injustices by informing the public about what was really happening in the coun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6" descr="picture/image_Patricia_Marie_Minerva_Mirabal_sisters"/>
          <p:cNvPicPr/>
          <p:nvPr/>
        </p:nvPicPr>
        <p:blipFill>
          <a:blip r:embed="rId1"/>
          <a:stretch/>
        </p:blipFill>
        <p:spPr>
          <a:xfrm>
            <a:off x="3200400" y="473400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75960"/>
            <a:ext cx="80769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irabal sisters were some of the most influential revolutionists during Trujillo’s Regim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jillo had them murd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isters were part of an underground movement against Trujillo’s govern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r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erv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ria Tere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Patria%20SMALLER"/>
          <p:cNvPicPr/>
          <p:nvPr/>
        </p:nvPicPr>
        <p:blipFill>
          <a:blip r:embed="rId1"/>
          <a:stretch/>
        </p:blipFill>
        <p:spPr>
          <a:xfrm>
            <a:off x="990720" y="2971800"/>
            <a:ext cx="2012760" cy="259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Minerva%20SMALLER"/>
          <p:cNvPicPr/>
          <p:nvPr/>
        </p:nvPicPr>
        <p:blipFill>
          <a:blip r:embed="rId2"/>
          <a:stretch/>
        </p:blipFill>
        <p:spPr>
          <a:xfrm>
            <a:off x="3903840" y="2971800"/>
            <a:ext cx="1963440" cy="252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"/>
          <p:cNvPicPr/>
          <p:nvPr/>
        </p:nvPicPr>
        <p:blipFill>
          <a:blip r:embed="rId3"/>
          <a:stretch/>
        </p:blipFill>
        <p:spPr>
          <a:xfrm>
            <a:off x="6532560" y="2971800"/>
            <a:ext cx="1544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6:32:27Z</dcterms:created>
  <dc:creator>Jennifer Dawson</dc:creator>
  <dc:description/>
  <dc:language>en-US</dc:language>
  <cp:lastModifiedBy>Helen Zumaeta</cp:lastModifiedBy>
  <dcterms:modified xsi:type="dcterms:W3CDTF">2014-02-24T18:38:21Z</dcterms:modified>
  <cp:revision>18</cp:revision>
  <dc:subject/>
  <dc:title>Rafael Trujillo</dc:title>
</cp:coreProperties>
</file>